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gif" ContentType="image/gif"/>
  <Override PartName="/ppt/media/image22.wmf" ContentType="image/x-wmf"/>
  <Override PartName="/ppt/media/image7.jpeg" ContentType="image/jpeg"/>
  <Override PartName="/ppt/media/image15.gif" ContentType="image/gif"/>
  <Override PartName="/ppt/media/image11.gif" ContentType="image/gif"/>
  <Override PartName="/ppt/media/image6.gif" ContentType="image/gif"/>
  <Override PartName="/ppt/media/image17.wmf" ContentType="image/x-wmf"/>
  <Override PartName="/ppt/media/image21.gif" ContentType="image/gif"/>
  <Override PartName="/ppt/media/image19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20.wmf" ContentType="image/x-wmf"/>
  <Override PartName="/ppt/media/image18.wmf" ContentType="image/x-wmf"/>
  <Override PartName="/ppt/media/image14.gif" ContentType="image/gif"/>
  <Override PartName="/ppt/media/image1.jpeg" ContentType="image/jpeg"/>
  <Override PartName="/ppt/media/image4.wmf" ContentType="image/x-wmf"/>
  <Override PartName="/ppt/media/image16.wmf" ContentType="image/x-wmf"/>
  <Override PartName="/ppt/media/image5.gif" ContentType="image/gif"/>
  <Override PartName="/ppt/media/image10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F24-2E25-4BDE-886E-FEEFAA5A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450-1920-4159-86B3-C34D4A0B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DE64F-40F4-4B3E-B47D-08C783C6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EA4E9-325C-40CE-AD31-97461EB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77DC2-B0C3-4724-976E-62DD91FE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4022B-4F8E-40CB-80E7-04591608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1F267-C01B-494D-A22C-A82AC1B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EC3E-4CFF-43EC-B2B7-AF9041D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F91DF-86F1-4876-AE4F-D316AF53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4E3FD-63E0-4079-A264-1C939BDA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E87E6-E1C8-4373-9DFA-AE5530A6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EBB-59FB-44E9-A755-8DEF4673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B9F-4519-40C5-9AF8-723EE6F5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52B4-F0ED-4A62-87DF-4A0CA83F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3C9A-C8D2-416C-BBC1-7FEE37C5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CC2-546A-4E5A-9D20-3DF2190A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A73D-3CF6-48B6-BB9D-2AC255BF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11C-1834-445D-ACB0-BA965F25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3C2F-96C7-470B-9A9B-C4E67846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D4D0-517B-4657-A0F5-E839BD0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220-028E-4373-A045-3E00CC8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F8E7-DBE5-451E-8FF1-9CCC1171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1933-67C8-462A-B954-16F68F8A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83ED-95A0-45BF-B436-F03A4B10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B7F-DB05-4FF6-B8AA-BC262265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A136-C372-4112-9089-2C4604CB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95B5-F0AF-468C-BB17-524E5DFB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D34B-BF33-495D-8926-5778427F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601F-9A0C-4334-BE4E-DD97A0D8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CEE3-6899-441A-BAD7-CEDAA822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3A8A-82AF-427D-9FF9-B573B43D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326-2FF5-471F-A4CC-EB16D6D1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20E1-7594-4830-8C7F-3A998FBC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EFB4-4E55-49F9-A638-7D188977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1977-407B-48EB-A8F4-A6D951D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F554-62F4-4E59-9A1D-E178A9A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E291-127A-418D-9B22-4D9E13A2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12C8-2819-4A48-9E96-DABBCB36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681C-023E-42D0-A386-FC4337EB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3D8C-2969-4DBC-BDC5-DB96AA12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3AC9-3951-4138-AC46-D00D15A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2F88-75D7-4C65-B367-F24558A4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BCD-EEE2-47F3-A777-ECC11746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73730-B8A7-4F79-AC9A-D8831C35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CC76-574B-46A0-86BB-E8DC382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E030-D499-4C58-A877-67C1B5C9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FA20-53EB-4BC8-9BFB-C354B491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2F01-E8F3-4C41-8D60-846F8F4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51FF4-B4A5-435C-A565-5409C78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DC5C-8ACA-402D-8EC9-6C4D0FE2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34AD-2FBB-4CE0-8BFC-A8B17053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1191-B7C6-45AE-9FD7-45882EB7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2F4B-725E-4D68-8D00-EACD0774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EEB-6207-4662-899F-5DAE925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B084-D335-4A8D-AD45-FE483610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6608F-1228-4F68-A4D2-6ABBB19A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233B-2FA1-4B34-91E6-5AD6981C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ABEE-7E68-4501-9A12-F90649B0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1350-9BA2-4A8C-A0E1-541D315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3F14-EAA8-482A-ABF3-D77AA8A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C9E59-FF71-4806-BB55-CC2C405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6564F-F67E-4D46-9EC4-108E5DC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854A-4A2F-4793-82E0-A9B7232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2ADD-A5D7-4157-81A0-A101BE9C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EA8-ADD0-45D1-B186-0554A30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BB2A4-8FF6-4844-9872-278FE43D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34FC3-68DB-434B-914D-77FDBDE8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5F9E-4E54-4912-8550-69F153F7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5146-9374-4334-9274-24AE6B61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7C01-110F-44C9-9150-D65F72EC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F932C-0520-4E09-8510-5BBB7454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F18B7-4165-4171-A663-1A6F876A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67AD2-2D8B-4F97-8E11-8619E225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80DE4-3170-4EF5-B060-2FE9ECE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3AFBC-BD4A-4D0B-B269-924D82D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925-2EF6-4B73-AC99-3697301C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3E6F-DFB0-48A1-9569-2DC583D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D59B-14EB-4434-871A-92F8D87D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6AE0-33F3-4765-BADE-160A84EB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5FCE4-0626-44CF-81A5-A797CD96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7B04E-E1A1-4739-A93D-3C2709F9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1A4AC-0562-4DF8-98CA-EACCB50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05025-2F0C-4144-B0AF-39090806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33042-0E43-47C8-B609-B16F6393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ED4BC-712A-4CD8-9EB2-944EC63C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A85E7-140C-42B3-A9FE-F5BEBDF8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2CE-1B33-47E5-A1B6-0C559BB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C9587-C61A-49D9-BA8D-AA05167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56A9E-9686-4884-8E6E-E3AB6EB7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09DEB-7CC7-4658-8A16-563502A7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486C8-D288-445C-A72A-28DBE03A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6D514-BC8C-4F35-900F-998EC9AE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4A88-543C-4F95-B0DD-D55602F4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82A61-1F11-4341-851B-E67A42C4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C7731-E769-4A1E-A3B1-800EF49E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9F0A-0A0E-4BC5-A469-1CB7D72B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00162-6036-45C9-8364-C57E2BE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EE1-91D6-428D-ADD2-A37BEBFD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C72E-1AB6-4068-941E-C2D635C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E6BE9-6417-45B4-BD88-7FB08C2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03F0-5058-40C2-9FE8-CCE76F2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9E484-D1DE-47B6-9ED1-4E3C7FA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14F56-BC85-4B8B-B6E5-1849D29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A15E-7787-45B2-A622-A064458D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CC5B-18E6-4BD8-AFE5-F6937D5D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C613B-D841-4F72-991D-CF63F250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4BE1-2592-4B63-922C-1F30C57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83D56-7BDB-4B4C-8CD1-7D432D9C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6090-7F97-4D9B-9546-E4814976F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13DF-1902-465C-8F94-E90B8A4322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8EBD-92D9-4DE0-A4FD-0F3D4E80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6324-2A8A-4D35-83EB-913EE828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5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6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8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A72-553B-437A-AA02-A4BB86E940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71C-8AAD-4BB8-AC32-C8BB8E5468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8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8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9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09A-4C7E-4025-9AB9-AA15237F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63FB-7CAE-4690-A747-6648B298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8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0265-C9EF-4319-A30E-567615BBB5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4"/>
          <p:cNvSpPr txBox="1"/>
          <p:nvPr/>
        </p:nvSpPr>
        <p:spPr>
          <a:xfrm>
            <a:off x="468360" y="76500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емля - планет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лнечной  системы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9" name="Picture 6" descr="J0229659"/>
          <p:cNvPicPr/>
          <p:nvPr/>
        </p:nvPicPr>
        <p:blipFill>
          <a:blip r:embed="rId1"/>
          <a:stretch/>
        </p:blipFill>
        <p:spPr>
          <a:xfrm>
            <a:off x="5651640" y="4076640"/>
            <a:ext cx="3095640" cy="2006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j0290360"/>
          <p:cNvPicPr/>
          <p:nvPr/>
        </p:nvPicPr>
        <p:blipFill>
          <a:blip r:embed="rId2"/>
          <a:stretch/>
        </p:blipFill>
        <p:spPr>
          <a:xfrm>
            <a:off x="826920" y="3786120"/>
            <a:ext cx="24829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Кто первым убедился в том, что Земля имеет форму шар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гда это случило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Какая модель помогает нам увидеть уменьшенное изображение Зем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Чего больше на Земле – воды или суши? Как это можно определить по глобусу и кар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4" descr="j0232110"/>
          <p:cNvPicPr/>
          <p:nvPr/>
        </p:nvPicPr>
        <p:blipFill>
          <a:blip r:embed="rId1"/>
          <a:stretch/>
        </p:blipFill>
        <p:spPr>
          <a:xfrm>
            <a:off x="5940360" y="2492280"/>
            <a:ext cx="2568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345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а ученица 3 класса, член кружка «Юный программист» Валеева Юл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Валеева Гульнара Ильгизовна, учительница начальных классов Чувашско – Бродской средней школы Алькеевского района 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: Земля – планета Солнеч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Формировать у учащихся представления о Солнечной сис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работы на компьюте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ь самостоятельность в учебном процессе, любознате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d48"/>
                </a:solidFill>
                <a:latin typeface="Arial"/>
              </a:rPr>
              <a:t>Земля у нас одн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а Земля – единственная плане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которой существу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ля очень активна, вулканы и землетрясения постоянно меняют    её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9" descr="j0282861"/>
          <p:cNvPicPr/>
          <p:nvPr/>
        </p:nvPicPr>
        <p:blipFill>
          <a:blip r:embed="rId1"/>
          <a:stretch/>
        </p:blipFill>
        <p:spPr>
          <a:xfrm>
            <a:off x="6443640" y="4610160"/>
            <a:ext cx="2160720" cy="16952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j0174012"/>
          <p:cNvPicPr/>
          <p:nvPr/>
        </p:nvPicPr>
        <p:blipFill>
          <a:blip r:embed="rId2"/>
          <a:stretch/>
        </p:blipFill>
        <p:spPr>
          <a:xfrm>
            <a:off x="5076720" y="134136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6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100720" y="-2324160"/>
            <a:ext cx="5857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77756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м в мире человеком, увидевшим нашу Землю из космоса был космонавт Юрий Гагарин. Весь мир убедился в том, что Земля имеет форму шара. Это произошло  12 апреля 1961 года. Наша страна первой покорила космос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4" descr="j0178715"/>
          <p:cNvPicPr/>
          <p:nvPr/>
        </p:nvPicPr>
        <p:blipFill>
          <a:blip r:embed="rId1"/>
          <a:stretch/>
        </p:blipFill>
        <p:spPr>
          <a:xfrm>
            <a:off x="250920" y="2349360"/>
            <a:ext cx="3600360" cy="4508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4" descr="сканирование"/>
          <p:cNvPicPr/>
          <p:nvPr/>
        </p:nvPicPr>
        <p:blipFill>
          <a:blip r:embed="rId2"/>
          <a:stretch/>
        </p:blipFill>
        <p:spPr>
          <a:xfrm>
            <a:off x="4859280" y="2781360"/>
            <a:ext cx="3384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5"/>
          <p:cNvSpPr/>
          <p:nvPr/>
        </p:nvSpPr>
        <p:spPr>
          <a:xfrm>
            <a:off x="4356000" y="26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круг Земли вращается 1 спутник – Лу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месте с Луной Земля движется вокруг Солн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же как и все остальные планеты Солне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17" descr="j0219080"/>
          <p:cNvPicPr/>
          <p:nvPr/>
        </p:nvPicPr>
        <p:blipFill>
          <a:blip r:embed="rId1"/>
          <a:stretch/>
        </p:blipFill>
        <p:spPr>
          <a:xfrm>
            <a:off x="1763640" y="9079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9" descr="56"/>
          <p:cNvPicPr/>
          <p:nvPr/>
        </p:nvPicPr>
        <p:blipFill>
          <a:blip r:embed="rId2"/>
          <a:stretch/>
        </p:blipFill>
        <p:spPr>
          <a:xfrm>
            <a:off x="1332000" y="2637000"/>
            <a:ext cx="30621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37 0.03398 C 0.28299 0.03398 0.42118 0.21711 0.42118 0.44231 C 0.42118 0.66728 0.28299 0.85063 0.11337 0.85063 C -0.05642 0.85063 -0.19444 0.66728 -0.19444 0.44231 C -0.19444 0.21711 -0.05642 0.03398 0.11337 0.03398 Z">
                                      <p:cBhvr>
                                        <p:cTn id="77" dur="5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емля имеет форму шара. Она вращается вокруг Солнца и одновременно вокр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оей оси, поэт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смена дня и но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Picture 28" descr="j0174012"/>
          <p:cNvPicPr/>
          <p:nvPr/>
        </p:nvPicPr>
        <p:blipFill>
          <a:blip r:embed="rId1"/>
          <a:stretch/>
        </p:blipFill>
        <p:spPr>
          <a:xfrm>
            <a:off x="5076720" y="177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2" descr="j0219082"/>
          <p:cNvPicPr/>
          <p:nvPr/>
        </p:nvPicPr>
        <p:blipFill>
          <a:blip r:embed="rId2"/>
          <a:stretch/>
        </p:blipFill>
        <p:spPr>
          <a:xfrm>
            <a:off x="4500720" y="2997360"/>
            <a:ext cx="2555640" cy="259236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23"/>
          <p:cNvSpPr/>
          <p:nvPr/>
        </p:nvSpPr>
        <p:spPr>
          <a:xfrm>
            <a:off x="7524720" y="907920"/>
            <a:ext cx="432000" cy="43344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5600 h 433440"/>
              <a:gd name="textAreaBottom" fmla="*/ 331200 h 433440"/>
            </a:gdLst>
            <a:ahLst/>
            <a:rect l="textAreaLeft" t="textAreaTop" r="textAreaRight" b="textAreaBottom"/>
            <a:pathLst>
              <a:path w="431800" h="433388">
                <a:moveTo>
                  <a:pt x="0" y="165539"/>
                </a:moveTo>
                <a:lnTo>
                  <a:pt x="164934" y="165540"/>
                </a:lnTo>
                <a:lnTo>
                  <a:pt x="215900" y="0"/>
                </a:lnTo>
                <a:lnTo>
                  <a:pt x="266866" y="165540"/>
                </a:lnTo>
                <a:lnTo>
                  <a:pt x="431800" y="165539"/>
                </a:lnTo>
                <a:lnTo>
                  <a:pt x="298365" y="267847"/>
                </a:lnTo>
                <a:lnTo>
                  <a:pt x="349334" y="433387"/>
                </a:lnTo>
                <a:lnTo>
                  <a:pt x="215900" y="331077"/>
                </a:lnTo>
                <a:lnTo>
                  <a:pt x="82466" y="433387"/>
                </a:lnTo>
                <a:lnTo>
                  <a:pt x="133435" y="267847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24"/>
          <p:cNvSpPr/>
          <p:nvPr/>
        </p:nvSpPr>
        <p:spPr>
          <a:xfrm>
            <a:off x="4211640" y="4941720"/>
            <a:ext cx="431640" cy="360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25"/>
          <p:cNvSpPr/>
          <p:nvPr/>
        </p:nvSpPr>
        <p:spPr>
          <a:xfrm>
            <a:off x="7956720" y="5445000"/>
            <a:ext cx="502920" cy="648000"/>
          </a:xfrm>
          <a:custGeom>
            <a:avLst/>
            <a:gdLst>
              <a:gd name="textAreaLeft" fmla="*/ 155520 w 502920"/>
              <a:gd name="textAreaRight" fmla="*/ 347400 w 502920"/>
              <a:gd name="textAreaTop" fmla="*/ 247320 h 648000"/>
              <a:gd name="textAreaBottom" fmla="*/ 495000 h 648000"/>
            </a:gdLst>
            <a:ahLst/>
            <a:rect l="textAreaLeft" t="textAreaTop" r="textAreaRight" b="textAreaBottom"/>
            <a:pathLst>
              <a:path w="503238" h="647700">
                <a:moveTo>
                  <a:pt x="1" y="247399"/>
                </a:moveTo>
                <a:lnTo>
                  <a:pt x="192221" y="247400"/>
                </a:lnTo>
                <a:lnTo>
                  <a:pt x="251619" y="0"/>
                </a:lnTo>
                <a:lnTo>
                  <a:pt x="311017" y="247400"/>
                </a:lnTo>
                <a:lnTo>
                  <a:pt x="503237" y="247399"/>
                </a:lnTo>
                <a:lnTo>
                  <a:pt x="347727" y="400299"/>
                </a:lnTo>
                <a:lnTo>
                  <a:pt x="407128" y="647698"/>
                </a:lnTo>
                <a:lnTo>
                  <a:pt x="251619" y="494795"/>
                </a:lnTo>
                <a:lnTo>
                  <a:pt x="96110" y="647698"/>
                </a:lnTo>
                <a:lnTo>
                  <a:pt x="155511" y="40029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26"/>
          <p:cNvSpPr/>
          <p:nvPr/>
        </p:nvSpPr>
        <p:spPr>
          <a:xfrm>
            <a:off x="2700360" y="476280"/>
            <a:ext cx="431640" cy="288720"/>
          </a:xfrm>
          <a:custGeom>
            <a:avLst/>
            <a:gdLst>
              <a:gd name="textAreaLeft" fmla="*/ 133200 w 431640"/>
              <a:gd name="textAreaRight" fmla="*/ 298440 w 43164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431800" h="288925">
                <a:moveTo>
                  <a:pt x="0" y="110359"/>
                </a:moveTo>
                <a:lnTo>
                  <a:pt x="164934" y="110360"/>
                </a:lnTo>
                <a:lnTo>
                  <a:pt x="215900" y="0"/>
                </a:lnTo>
                <a:lnTo>
                  <a:pt x="266866" y="110360"/>
                </a:lnTo>
                <a:lnTo>
                  <a:pt x="431800" y="110359"/>
                </a:lnTo>
                <a:lnTo>
                  <a:pt x="298365" y="178565"/>
                </a:lnTo>
                <a:lnTo>
                  <a:pt x="349334" y="288924"/>
                </a:lnTo>
                <a:lnTo>
                  <a:pt x="215900" y="220718"/>
                </a:lnTo>
                <a:lnTo>
                  <a:pt x="82466" y="288924"/>
                </a:lnTo>
                <a:lnTo>
                  <a:pt x="133435" y="178565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-1.44509E-006 C 0.19357 -1.44509E-006 0.31788 0.15422 0.31788 0.34405 C 0.31788 0.53364 0.19357 0.68809 0.0408 0.68809 C -0.11215 0.68809 -0.23629 0.53364 -0.23629 0.34405 C -0.23629 0.15422 -0.11215 -1.44509E-006 0.0408 -1.44509E-006 Z">
                                      <p:cBhvr>
                                        <p:cTn id="108" dur="5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ля имеет огромные запасы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защищает её от метеоритов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ечного излучения, что и определя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ование жизни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Picture 3" descr="j0219085"/>
          <p:cNvPicPr/>
          <p:nvPr/>
        </p:nvPicPr>
        <p:blipFill>
          <a:blip r:embed="rId1"/>
          <a:stretch/>
        </p:blipFill>
        <p:spPr>
          <a:xfrm>
            <a:off x="5796000" y="765000"/>
            <a:ext cx="1284120" cy="130176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4"/>
          <p:cNvSpPr/>
          <p:nvPr/>
        </p:nvSpPr>
        <p:spPr>
          <a:xfrm>
            <a:off x="8101080" y="981000"/>
            <a:ext cx="574560" cy="576360"/>
          </a:xfrm>
          <a:custGeom>
            <a:avLst/>
            <a:gdLst>
              <a:gd name="textAreaLeft" fmla="*/ 177480 w 574560"/>
              <a:gd name="textAreaRight" fmla="*/ 397080 w 5745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4675" h="576263">
                <a:moveTo>
                  <a:pt x="1" y="220112"/>
                </a:moveTo>
                <a:lnTo>
                  <a:pt x="219508" y="220114"/>
                </a:lnTo>
                <a:lnTo>
                  <a:pt x="287338" y="0"/>
                </a:lnTo>
                <a:lnTo>
                  <a:pt x="355167" y="220114"/>
                </a:lnTo>
                <a:lnTo>
                  <a:pt x="574674" y="220112"/>
                </a:lnTo>
                <a:lnTo>
                  <a:pt x="397089" y="356148"/>
                </a:lnTo>
                <a:lnTo>
                  <a:pt x="464922" y="576261"/>
                </a:lnTo>
                <a:lnTo>
                  <a:pt x="287338" y="440223"/>
                </a:lnTo>
                <a:lnTo>
                  <a:pt x="109753" y="576261"/>
                </a:lnTo>
                <a:lnTo>
                  <a:pt x="177586" y="356148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3492360" y="404640"/>
            <a:ext cx="719280" cy="360360"/>
          </a:xfrm>
          <a:custGeom>
            <a:avLst/>
            <a:gdLst>
              <a:gd name="textAreaLeft" fmla="*/ 296280 w 719280"/>
              <a:gd name="textAreaRight" fmla="*/ 423000 w 719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utoShape 6"/>
          <p:cNvSpPr/>
          <p:nvPr/>
        </p:nvSpPr>
        <p:spPr>
          <a:xfrm>
            <a:off x="468360" y="549360"/>
            <a:ext cx="718920" cy="431640"/>
          </a:xfrm>
          <a:custGeom>
            <a:avLst/>
            <a:gdLst>
              <a:gd name="textAreaLeft" fmla="*/ 222120 w 718920"/>
              <a:gd name="textAreaRight" fmla="*/ 496800 w 718920"/>
              <a:gd name="textAreaTop" fmla="*/ 164880 h 431640"/>
              <a:gd name="textAreaBottom" fmla="*/ 329760 h 431640"/>
            </a:gdLst>
            <a:ahLst/>
            <a:rect l="textAreaLeft" t="textAreaTop" r="textAreaRight" b="textAreaBottom"/>
            <a:pathLst>
              <a:path w="719137" h="431800">
                <a:moveTo>
                  <a:pt x="1" y="164932"/>
                </a:moveTo>
                <a:lnTo>
                  <a:pt x="274687" y="164934"/>
                </a:lnTo>
                <a:lnTo>
                  <a:pt x="359569" y="0"/>
                </a:lnTo>
                <a:lnTo>
                  <a:pt x="444450" y="164934"/>
                </a:lnTo>
                <a:lnTo>
                  <a:pt x="719136" y="164932"/>
                </a:lnTo>
                <a:lnTo>
                  <a:pt x="496909" y="266866"/>
                </a:lnTo>
                <a:lnTo>
                  <a:pt x="581794" y="431799"/>
                </a:lnTo>
                <a:lnTo>
                  <a:pt x="359569" y="329864"/>
                </a:lnTo>
                <a:lnTo>
                  <a:pt x="137343" y="431799"/>
                </a:lnTo>
                <a:lnTo>
                  <a:pt x="222228" y="26686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Picture 7" descr="j0282866"/>
          <p:cNvPicPr/>
          <p:nvPr/>
        </p:nvPicPr>
        <p:blipFill>
          <a:blip r:embed="rId2"/>
          <a:stretch/>
        </p:blipFill>
        <p:spPr>
          <a:xfrm>
            <a:off x="4500720" y="5129280"/>
            <a:ext cx="2808000" cy="1728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j0282868"/>
          <p:cNvPicPr/>
          <p:nvPr/>
        </p:nvPicPr>
        <p:blipFill>
          <a:blip r:embed="rId3"/>
          <a:stretch/>
        </p:blipFill>
        <p:spPr>
          <a:xfrm>
            <a:off x="7270920" y="4653000"/>
            <a:ext cx="1873080" cy="2205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j0303326"/>
          <p:cNvPicPr/>
          <p:nvPr/>
        </p:nvPicPr>
        <p:blipFill>
          <a:blip r:embed="rId4"/>
          <a:stretch/>
        </p:blipFill>
        <p:spPr>
          <a:xfrm>
            <a:off x="6012000" y="2852640"/>
            <a:ext cx="14619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емная ось наклонена к плоскости орбиты Земли под углом и направлена всегда в одн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очку – Полярную звезд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клонное положение оси Земли сохраняется в течение всего года, поэтому солнце освещает поверхность Земли по разном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9" name="Picture 12" descr="J0215547"/>
          <p:cNvPicPr/>
          <p:nvPr/>
        </p:nvPicPr>
        <p:blipFill>
          <a:blip r:embed="rId1"/>
          <a:stretch/>
        </p:blipFill>
        <p:spPr>
          <a:xfrm>
            <a:off x="5796000" y="2565360"/>
            <a:ext cx="2808360" cy="339732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15"/>
          <p:cNvSpPr/>
          <p:nvPr/>
        </p:nvSpPr>
        <p:spPr>
          <a:xfrm>
            <a:off x="5508720" y="1268280"/>
            <a:ext cx="503280" cy="287640"/>
          </a:xfrm>
          <a:custGeom>
            <a:avLst/>
            <a:gdLst>
              <a:gd name="textAreaLeft" fmla="*/ 155520 w 503280"/>
              <a:gd name="textAreaRight" fmla="*/ 347760 w 503280"/>
              <a:gd name="textAreaTop" fmla="*/ 109800 h 287640"/>
              <a:gd name="textAreaBottom" fmla="*/ 219960 h 287640"/>
            </a:gdLst>
            <a:ahLst/>
            <a:rect l="textAreaLeft" t="textAreaTop" r="textAreaRight" b="textAreaBottom"/>
            <a:pathLst>
              <a:path w="503238" h="287337">
                <a:moveTo>
                  <a:pt x="1" y="109753"/>
                </a:moveTo>
                <a:lnTo>
                  <a:pt x="192221" y="109753"/>
                </a:lnTo>
                <a:lnTo>
                  <a:pt x="251619" y="0"/>
                </a:lnTo>
                <a:lnTo>
                  <a:pt x="311017" y="109753"/>
                </a:lnTo>
                <a:lnTo>
                  <a:pt x="503237" y="109753"/>
                </a:lnTo>
                <a:lnTo>
                  <a:pt x="347727" y="177583"/>
                </a:lnTo>
                <a:lnTo>
                  <a:pt x="407128" y="287336"/>
                </a:lnTo>
                <a:lnTo>
                  <a:pt x="251619" y="219504"/>
                </a:lnTo>
                <a:lnTo>
                  <a:pt x="96110" y="287336"/>
                </a:lnTo>
                <a:lnTo>
                  <a:pt x="155511" y="177583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бы было возможно совершить путеше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круг Земли пешком, делая по 25 км. в сутки,  н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требовалось бы 1600 суток или 4 года и 140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4" descr="J0215306"/>
          <p:cNvPicPr/>
          <p:nvPr/>
        </p:nvPicPr>
        <p:blipFill>
          <a:blip r:embed="rId1"/>
          <a:stretch/>
        </p:blipFill>
        <p:spPr>
          <a:xfrm>
            <a:off x="1079640" y="4317840"/>
            <a:ext cx="1584360" cy="1798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J0215303"/>
          <p:cNvPicPr/>
          <p:nvPr/>
        </p:nvPicPr>
        <p:blipFill>
          <a:blip r:embed="rId2"/>
          <a:stretch/>
        </p:blipFill>
        <p:spPr>
          <a:xfrm>
            <a:off x="3708360" y="4433760"/>
            <a:ext cx="1905120" cy="1683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15291"/>
          <p:cNvPicPr/>
          <p:nvPr/>
        </p:nvPicPr>
        <p:blipFill>
          <a:blip r:embed="rId3"/>
          <a:stretch/>
        </p:blipFill>
        <p:spPr>
          <a:xfrm>
            <a:off x="6732720" y="4149720"/>
            <a:ext cx="1180800" cy="18716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11"/>
          <p:cNvSpPr/>
          <p:nvPr/>
        </p:nvSpPr>
        <p:spPr>
          <a:xfrm>
            <a:off x="6084720" y="476280"/>
            <a:ext cx="2590920" cy="223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2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0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11280" y="-4283640"/>
            <a:ext cx="144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самолёте можно облететь Землю за 40 ча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рерывного полёта (почти двое суток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самолёт летит со скоростью 1000 км. в 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J0280308"/>
          <p:cNvPicPr/>
          <p:nvPr/>
        </p:nvPicPr>
        <p:blipFill>
          <a:blip r:embed="rId1"/>
          <a:stretch/>
        </p:blipFill>
        <p:spPr>
          <a:xfrm>
            <a:off x="4284720" y="1268280"/>
            <a:ext cx="2303280" cy="15908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j0189252"/>
          <p:cNvPicPr/>
          <p:nvPr/>
        </p:nvPicPr>
        <p:blipFill>
          <a:blip r:embed="rId2"/>
          <a:stretch/>
        </p:blipFill>
        <p:spPr>
          <a:xfrm>
            <a:off x="2268360" y="333360"/>
            <a:ext cx="1729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3.7037E-006 C 0.01893 -0.00833 0.03976 -0.00069 0.05903 0.00324 C 0.07206 0.00903 0.08456 0.01366 0.09775 0.01829 C 0.10244 0.01991 0.11147 0.02431 0.11147 0.02431 C 0.11372 0.02639 0.11581 0.0287 0.11824 0.03032 C 0.12032 0.03171 0.12292 0.03171 0.12501 0.03333 C 0.12692 0.03495 0.12778 0.03773 0.12952 0.03958 C 0.13699 0.04745 0.14237 0.05278 0.14775 0.06366 C 0.15765 0.10417 0.16719 0.14468 0.17726 0.18495 C 0.179 0.1919 0.18334 0.19722 0.18647 0.20324 C 0.18803 0.20625 0.18942 0.20926 0.19098 0.21227 C 0.19237 0.21481 0.1915 0.21898 0.19324 0.2213 C 0.19497 0.22361 0.19775 0.22338 0.20001 0.22431 C 0.21268 0.24977 0.19584 0.21968 0.21147 0.23657 C 0.21355 0.23889 0.2139 0.24329 0.21598 0.2456 C 0.21789 0.24768 0.22067 0.24699 0.22275 0.24861 C 0.24028 0.26134 0.25313 0.27847 0.27275 0.28495 C 0.28386 0.29468 0.29844 0.29722 0.31147 0.3 C 0.33317 0.31042 0.34949 0.30625 0.37501 0.30625 E">
                                      <p:cBhvr>
                                        <p:cTn id="187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8:41:01Z</dcterms:created>
  <dc:creator>cnit10</dc:creator>
  <dc:description/>
  <dc:language>en-US</dc:language>
  <cp:lastModifiedBy>Fenix</cp:lastModifiedBy>
  <dcterms:modified xsi:type="dcterms:W3CDTF">2012-12-20T14:53:02Z</dcterms:modified>
  <cp:revision>32</cp:revision>
  <dc:subject/>
  <dc:title>Слайд 1</dc:title>
</cp:coreProperties>
</file>